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3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DC5-468A-47DE-B4A2-B8231A47BBC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A60-DC48-424B-954B-4DE2364DB3D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76F-999D-4FC5-AF2B-E479C26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FA6-1811-4FF8-AE1C-5BF26908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5B9-D7A7-4885-922D-944C4BC7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158-BFEE-4F49-BD3F-F07AA05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996-1B37-4228-8239-114603AB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D96E-D494-4CE1-B137-9B04B750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10C6-30FF-4954-8E84-CE13706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220-DA04-4225-82EE-141D4F3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EA7F-4001-440A-B06C-2F3188A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0E24-CAE4-4412-8AFD-E53765D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A96B-5214-46D8-B034-6EC2D8F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E5A-A707-4B55-AA7F-6DE3877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731C-3588-4B1B-B94F-2A68A43F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E535-C5FC-4D33-A21E-5EEACC5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3D40-7FB3-4D80-9F97-B93DF5AA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A05F-CCD6-460C-9ECF-712DE65C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62D0-C73B-4634-8FE8-154C5A26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0A98-134E-4FB0-93B7-991D7D7F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FF1A-C92D-4330-B690-F530AEF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CFDE-2704-467D-A63C-6D5AF9F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8D7B-43A8-43A7-9296-6557316B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54B3-C21D-4A64-9B2E-2CCB368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F8A-042A-476E-83F6-00E592A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C512-9D7E-4754-8BA2-C128173E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C732-7B10-436F-906C-89B3D14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27D3-A140-459C-9187-7823B12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5C97-43D0-4262-B276-545368A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2E68-59B9-4D02-832D-5F3E084A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63BC-C0FF-46BC-B990-423A5710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B814-8BB1-4ECF-969D-5B1D6E04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6DA-8B4E-48A8-B89D-F22D884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F983-00F1-4B06-87F5-D487A010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D74-EEB7-4128-A8C2-F818897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47EA-DC5C-4BD1-9300-C29F902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41D6D-1B8C-4FD2-9584-93399E8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2D48-C55D-4D44-84E3-CB6D869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1F5C-DDD7-4D3F-A64C-CE6F26F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64AF-92F3-4CE8-B9CF-4ED7F270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E7D7-E98D-4638-AC8F-5E42B02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4D88-812D-46C6-9C5F-CB6E024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0AFA-C841-4513-AB4F-521F073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0081-BBA8-49B3-80AA-B2103C2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6987-EFBA-496D-8EC3-63B0884B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BC6-4DD8-4750-9EC0-D0A29F5A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5C68-2309-4463-AD91-1A301DBD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10E2-71A3-483B-A619-B91C82F1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ABCC-55A4-4B21-A443-5C5FC64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6ABDB-9D7F-4291-ADF7-2215A5E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B216-525F-447F-8D5A-162BFB3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7720-BD68-45B7-BB75-1228E090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2105-45BD-4DDB-8A96-45C1D5E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E5D3-6C7A-4616-8108-7E2D609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DAF1-60E7-42F3-8DD4-4C04F69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5DEE-2DC8-4299-9126-25D776E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671-4D06-4111-B33C-D6EE92B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FF37-0E55-4DCB-826B-E9ED59C1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58F5-515B-473E-AA2E-74E3D252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CBE35-9467-47F2-A835-FE92F888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DA29-0F4C-46CE-8109-ABFD2814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F198-72CA-49C4-A207-FEB4BFC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25AC-FC20-444B-A135-675561F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1B7B-F5B6-4706-A32A-5B0E5F7B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C6A3-924B-4312-99E1-E70E2B6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AA78-7F0F-498F-A6FE-11D4A1D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86E4-08E4-4352-A956-F05213A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85A-FC25-4005-BC3C-1CD676D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8775-C7A1-45C2-AB1C-BE42473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FE8F-A94A-4C96-BA95-CAC27A7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5226-7C9B-4311-B336-88A7ECE4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5D1A-372B-45A5-B86C-83E0AA99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D101-B967-4E50-9043-5674EF70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2CF-2B47-4C11-B6C3-D5D071A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9C18-A41F-47AC-9F57-B99D2166417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761-5976-4202-BACF-458900DC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8638-62B9-4906-8A99-412BB2CB6897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5D00-E491-4E22-8D9C-01B2FA3CFBDF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7DE1-2A48-416A-8A24-2578FBEED786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70D-B93E-4C6C-90EE-F5C14BF3155E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f any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probability of an event occurring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ccu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380880" y="175248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80880" y="152280"/>
            <a:ext cx="7772400" cy="14724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’ll be using the Poisson Distribution to calculate the probability of an event occurring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1981080" y="3733920"/>
            <a:ext cx="457200" cy="312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538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539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540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8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9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560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561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562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563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6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7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8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569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570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2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43"/>
          <p:cNvSpPr/>
          <p:nvPr/>
        </p:nvSpPr>
        <p:spPr>
          <a:xfrm>
            <a:off x="396000" y="3459240"/>
            <a:ext cx="55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quired value has the same area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it for each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4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576" name="Line 45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46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47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48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49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50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51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52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53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54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55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Line 56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Line 57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Line 58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59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60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61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62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63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595" name="Line 64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Line 65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66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67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68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69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70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71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2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3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74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606" name="Group 75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607" name="Line 76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77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Text Box 78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Text Box 79"/>
          <p:cNvSpPr/>
          <p:nvPr/>
        </p:nvSpPr>
        <p:spPr>
          <a:xfrm>
            <a:off x="419040" y="433080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i.e. the two shaded areas must b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80"/>
          <p:cNvSpPr/>
          <p:nvPr/>
        </p:nvSpPr>
        <p:spPr>
          <a:xfrm>
            <a:off x="5880240" y="4610160"/>
            <a:ext cx="1663560" cy="63504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616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617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618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6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638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639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640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641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2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3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4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5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6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647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648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0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43"/>
          <p:cNvSpPr/>
          <p:nvPr/>
        </p:nvSpPr>
        <p:spPr>
          <a:xfrm>
            <a:off x="398520" y="430056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e – this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given by th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oint where the curves inters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44"/>
          <p:cNvSpPr/>
          <p:nvPr/>
        </p:nvSpPr>
        <p:spPr>
          <a:xfrm>
            <a:off x="396000" y="3459240"/>
            <a:ext cx="55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quired value has the same area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it for each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Group 45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655" name="Line 46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47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48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49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50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51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52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53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54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55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56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57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58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59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60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61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62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63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Group 64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674" name="Line 65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66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67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68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69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70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71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72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73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74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75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685" name="Group 76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686" name="Line 77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Line 78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Text Box 79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693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694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695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3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4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715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716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717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718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0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1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3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724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725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7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Group 43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730" name="Line 44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45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46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47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48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49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50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51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52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53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54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55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Line 56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Line 57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58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59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Line 60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61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62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749" name="Line 63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64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65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66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67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68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69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ine 70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71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72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9" name="Rectangle 73"/>
          <p:cNvSpPr/>
          <p:nvPr/>
        </p:nvSpPr>
        <p:spPr>
          <a:xfrm>
            <a:off x="396000" y="3457800"/>
            <a:ext cx="61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two probabilities to be equal, each cur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st convert to the sa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alue as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0" name="Group 74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761" name="Group 75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762" name="Line 76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Line 77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Text Box 78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5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2449440" y="6397560"/>
            <a:ext cx="154296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Group 7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770" name="Group 8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771" name="Group 9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772" name="Line 10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Line 11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Line 12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Line 13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Line 14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Line 15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Line 16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Line 17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Line 18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Line 19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Text Box 20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Text Box 21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Text Box 22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Text Box 23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Text Box 24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Text Box 25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Text Box 26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Text Box 27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0" name="Text Box 28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29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792" name="Group 30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793" name="Group 31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794" name="Group 32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795" name="Freeform 33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34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97" name="Line 35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8" name="Rectangle 36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9" name="Text Box 37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0" name="Group 38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801" name="Group 39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802" name="Freeform 40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41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4" name="Text Box 42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Group 43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806" name="Line 44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45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46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47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48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49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50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51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52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53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54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55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56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57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58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59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Line 60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61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Group 62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825" name="Line 63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Line 64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Line 65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Line 66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Line 67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Line 68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69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70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71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72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73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836" name="Group 74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837" name="Line 75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76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9" name="Text Box 77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Rectangle 7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Object 79"/>
          <p:cNvGraphicFramePr/>
          <p:nvPr/>
        </p:nvGraphicFramePr>
        <p:xfrm>
          <a:off x="696960" y="2717640"/>
          <a:ext cx="2394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2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717640"/>
                    <a:ext cx="239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3" name="Object 80"/>
          <p:cNvGraphicFramePr/>
          <p:nvPr/>
        </p:nvGraphicFramePr>
        <p:xfrm>
          <a:off x="736560" y="3701880"/>
          <a:ext cx="23367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4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3701880"/>
                    <a:ext cx="23367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5" name="Object 81"/>
          <p:cNvGraphicFramePr/>
          <p:nvPr/>
        </p:nvGraphicFramePr>
        <p:xfrm>
          <a:off x="463680" y="4521240"/>
          <a:ext cx="273024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6" name="Object 8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4521240"/>
                    <a:ext cx="2730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7" name="Object 82"/>
          <p:cNvGraphicFramePr/>
          <p:nvPr/>
        </p:nvGraphicFramePr>
        <p:xfrm>
          <a:off x="1276200" y="5035680"/>
          <a:ext cx="123192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8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6200" y="5035680"/>
                    <a:ext cx="12319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9" name="Rectangle 83"/>
          <p:cNvSpPr/>
          <p:nvPr/>
        </p:nvSpPr>
        <p:spPr>
          <a:xfrm>
            <a:off x="393120" y="599616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ype of vehicle is equally lik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ticketed at 107.3 km/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84"/>
          <p:cNvSpPr/>
          <p:nvPr/>
        </p:nvSpPr>
        <p:spPr>
          <a:xfrm>
            <a:off x="3683160" y="373392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for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Group 85"/>
          <p:cNvGrpSpPr/>
          <p:nvPr/>
        </p:nvGrpSpPr>
        <p:grpSpPr>
          <a:xfrm>
            <a:off x="1467000" y="4965840"/>
            <a:ext cx="1352520" cy="907920"/>
            <a:chOff x="1467000" y="4965840"/>
            <a:chExt cx="1352520" cy="907920"/>
          </a:xfrm>
        </p:grpSpPr>
        <p:graphicFrame>
          <p:nvGraphicFramePr>
            <p:cNvPr id="1852" name="Object 86"/>
            <p:cNvGraphicFramePr/>
            <p:nvPr/>
          </p:nvGraphicFramePr>
          <p:xfrm>
            <a:off x="1467000" y="5581800"/>
            <a:ext cx="1282680" cy="29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3" name="Object 8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67000" y="5581800"/>
                      <a:ext cx="12826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4" name="Text Box 87"/>
            <p:cNvSpPr/>
            <p:nvPr/>
          </p:nvSpPr>
          <p:spPr>
            <a:xfrm>
              <a:off x="2514600" y="49658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5"/>
          <p:cNvSpPr/>
          <p:nvPr/>
        </p:nvSpPr>
        <p:spPr>
          <a:xfrm>
            <a:off x="29160" y="591120"/>
            <a:ext cx="88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5 – University Stage 2 Probability exam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a particular game where I can either win or lose (assuming: a)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dependence among the outcomes of the games and;  b)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bability to win in each game);  if the probability to win 3 gam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3 is      ,  what is the probability to win 2 out of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Object 2"/>
              <p:cNvSpPr txBox="1"/>
              <p:nvPr/>
            </p:nvSpPr>
            <p:spPr>
              <a:xfrm>
                <a:off x="914400" y="205740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2" name="TextBox 6"/>
          <p:cNvSpPr/>
          <p:nvPr/>
        </p:nvSpPr>
        <p:spPr>
          <a:xfrm>
            <a:off x="380880" y="350532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lution:  Probability of winning a single game, </a:t>
            </a:r>
            <a:r>
              <a:rPr b="0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s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3" name="Object 3"/>
              <p:cNvSpPr txBox="1"/>
              <p:nvPr/>
            </p:nvSpPr>
            <p:spPr>
              <a:xfrm>
                <a:off x="5810400" y="3287880"/>
                <a:ext cx="6094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4"/>
              <p:cNvSpPr txBox="1"/>
              <p:nvPr/>
            </p:nvSpPr>
            <p:spPr>
              <a:xfrm>
                <a:off x="6553080" y="3429000"/>
                <a:ext cx="38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TextBox 10"/>
          <p:cNvSpPr/>
          <p:nvPr/>
        </p:nvSpPr>
        <p:spPr>
          <a:xfrm>
            <a:off x="380880" y="46483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prob. of winning 2 out of 4 games is found by the binomial distribution formula where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2,  and  </a:t>
            </a:r>
            <a:r>
              <a:rPr b="0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1/3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Object 5"/>
              <p:cNvSpPr txBox="1"/>
              <p:nvPr/>
            </p:nvSpPr>
            <p:spPr>
              <a:xfrm>
                <a:off x="2104920" y="5376960"/>
                <a:ext cx="20383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Object 6"/>
              <p:cNvSpPr txBox="1"/>
              <p:nvPr/>
            </p:nvSpPr>
            <p:spPr>
              <a:xfrm>
                <a:off x="4505400" y="5334120"/>
                <a:ext cx="1714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Object 7"/>
              <p:cNvSpPr txBox="1"/>
              <p:nvPr/>
            </p:nvSpPr>
            <p:spPr>
              <a:xfrm>
                <a:off x="4429080" y="6324480"/>
                <a:ext cx="1581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6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sf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The geometric distribution: 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bability that the 1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success occurs in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nth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itle 1"/>
          <p:cNvSpPr/>
          <p:nvPr/>
        </p:nvSpPr>
        <p:spPr>
          <a:xfrm>
            <a:off x="571680" y="3143160"/>
            <a:ext cx="7772400" cy="14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The negative binomial distribution: 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bability that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kth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success occurs on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nth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robability of an event occurring i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occu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04920" y="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04920" y="5029200"/>
            <a:ext cx="8839080" cy="16686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Poisson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NZ" sz="2800" spc="-1" strike="noStrike" u="sng" baseline="50000">
                <a:solidFill>
                  <a:srgbClr val="000000"/>
                </a:solidFill>
                <a:uFillTx/>
                <a:latin typeface="Symbol"/>
                <a:ea typeface="Symbol"/>
              </a:rPr>
              <a:t></a:t>
            </a:r>
            <a:r>
              <a:rPr b="1" lang="en-NZ" sz="2800" spc="-1" strike="noStrike" u="sng" baseline="30000">
                <a:solidFill>
                  <a:srgbClr val="000000"/>
                </a:solidFill>
                <a:uFillTx/>
                <a:latin typeface="Symbol"/>
                <a:ea typeface="Symbol"/>
              </a:rPr>
              <a:t>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i="1" lang="en-NZ" sz="28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1905120" y="1600200"/>
            <a:ext cx="457200" cy="312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robability of an event occurring i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ccu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3505320"/>
            <a:ext cx="8839080" cy="16686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Poisson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NZ" sz="2800" spc="-1" strike="noStrike" u="sng" baseline="50000">
                <a:solidFill>
                  <a:srgbClr val="000000"/>
                </a:solidFill>
                <a:uFillTx/>
                <a:latin typeface="Symbol"/>
                <a:ea typeface="Symbol"/>
              </a:rPr>
              <a:t></a:t>
            </a:r>
            <a:r>
              <a:rPr b="1" lang="en-NZ" sz="2800" spc="-1" strike="noStrike" u="sng" baseline="30000">
                <a:solidFill>
                  <a:srgbClr val="000000"/>
                </a:solidFill>
                <a:uFillTx/>
                <a:latin typeface="Symbol"/>
                <a:ea typeface="Symbol"/>
              </a:rPr>
              <a:t>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i="1" lang="en-NZ" sz="28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0" y="5416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g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number of accidents at a particular intersection e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alculate the probability that there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ctly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there this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n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21"/>
          <p:cNvSpPr/>
          <p:nvPr/>
        </p:nvSpPr>
        <p:spPr>
          <a:xfrm>
            <a:off x="1752480" y="44956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504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g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number of accidents at a particular intersection e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alculate the probability that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xactly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there thi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on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311760" y="26708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6942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181480" y="56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914400" y="304920"/>
            <a:ext cx="507960" cy="350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6250320" y="144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0" y="53341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54122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6269040" y="1447920"/>
                <a:ext cx="336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Rectangle 7"/>
          <p:cNvSpPr/>
          <p:nvPr/>
        </p:nvSpPr>
        <p:spPr>
          <a:xfrm>
            <a:off x="5715000" y="213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7"/>
              <p:cNvSpPr txBox="1"/>
              <p:nvPr/>
            </p:nvSpPr>
            <p:spPr>
              <a:xfrm>
                <a:off x="1828800" y="251460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8"/>
              <p:cNvSpPr txBox="1"/>
              <p:nvPr/>
            </p:nvSpPr>
            <p:spPr>
              <a:xfrm>
                <a:off x="1447920" y="3505320"/>
                <a:ext cx="15429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Rectangle 8"/>
          <p:cNvSpPr/>
          <p:nvPr/>
        </p:nvSpPr>
        <p:spPr>
          <a:xfrm>
            <a:off x="1388160" y="44967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405800" y="144684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1"/>
          <p:cNvSpPr/>
          <p:nvPr/>
        </p:nvSpPr>
        <p:spPr>
          <a:xfrm>
            <a:off x="1752480" y="3048120"/>
            <a:ext cx="2971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6845400" y="49910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11760" y="1222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9422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518148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0" y="3886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0" y="3964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6116760" y="0"/>
                <a:ext cx="338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2" name="Rectangle 7"/>
          <p:cNvSpPr/>
          <p:nvPr/>
        </p:nvSpPr>
        <p:spPr>
          <a:xfrm>
            <a:off x="5715000" y="68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828800" y="106668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447920" y="198108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Rectangle 8"/>
          <p:cNvSpPr/>
          <p:nvPr/>
        </p:nvSpPr>
        <p:spPr>
          <a:xfrm>
            <a:off x="1388160" y="30492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1405800" y="-10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57200" y="4875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57200" y="5487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21"/>
          <p:cNvSpPr/>
          <p:nvPr/>
        </p:nvSpPr>
        <p:spPr>
          <a:xfrm>
            <a:off x="1752480" y="3048120"/>
            <a:ext cx="2971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6845400" y="49910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11760" y="1222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69422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518148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0" y="3886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0" y="3964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"/>
              <p:cNvSpPr txBox="1"/>
              <p:nvPr/>
            </p:nvSpPr>
            <p:spPr>
              <a:xfrm>
                <a:off x="6116760" y="0"/>
                <a:ext cx="338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Rectangle 7"/>
          <p:cNvSpPr/>
          <p:nvPr/>
        </p:nvSpPr>
        <p:spPr>
          <a:xfrm>
            <a:off x="5715000" y="68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828800" y="106668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1447920" y="198108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Rectangle 8"/>
          <p:cNvSpPr/>
          <p:nvPr/>
        </p:nvSpPr>
        <p:spPr>
          <a:xfrm>
            <a:off x="1388160" y="30492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1405800" y="-10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4875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457200" y="5487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5334120" y="525780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21"/>
          <p:cNvSpPr/>
          <p:nvPr/>
        </p:nvSpPr>
        <p:spPr>
          <a:xfrm>
            <a:off x="1752480" y="19810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6845400" y="39243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11760" y="1562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694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518148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28195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28976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3"/>
              <p:cNvSpPr txBox="1"/>
              <p:nvPr/>
            </p:nvSpPr>
            <p:spPr>
              <a:xfrm>
                <a:off x="1828800" y="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1447920" y="91440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Rectangle 8"/>
          <p:cNvSpPr/>
          <p:nvPr/>
        </p:nvSpPr>
        <p:spPr>
          <a:xfrm>
            <a:off x="1388160" y="19821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457200" y="380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457200" y="4420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"/>
              <p:cNvSpPr txBox="1"/>
              <p:nvPr/>
            </p:nvSpPr>
            <p:spPr>
              <a:xfrm>
                <a:off x="5334120" y="4191120"/>
                <a:ext cx="1171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5334120" y="5334120"/>
                <a:ext cx="15429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21"/>
          <p:cNvSpPr/>
          <p:nvPr/>
        </p:nvSpPr>
        <p:spPr>
          <a:xfrm>
            <a:off x="1752480" y="3808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6845400" y="23241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6942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>
            <a:off x="5181480" y="15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6"/>
          <p:cNvSpPr/>
          <p:nvPr/>
        </p:nvSpPr>
        <p:spPr>
          <a:xfrm>
            <a:off x="0" y="12193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0" y="1297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1387800" y="381960"/>
            <a:ext cx="33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457200" y="220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457200" y="2820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5334120" y="2590920"/>
                <a:ext cx="1171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5"/>
              <p:cNvSpPr txBox="1"/>
              <p:nvPr/>
            </p:nvSpPr>
            <p:spPr>
              <a:xfrm>
                <a:off x="5410080" y="3733920"/>
                <a:ext cx="15433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5486400" y="502920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Straight Connector 17"/>
          <p:cNvSpPr/>
          <p:nvPr/>
        </p:nvSpPr>
        <p:spPr>
          <a:xfrm flipV="1">
            <a:off x="6324480" y="38095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23"/>
          <p:cNvSpPr/>
          <p:nvPr/>
        </p:nvSpPr>
        <p:spPr>
          <a:xfrm flipV="1">
            <a:off x="6172200" y="441936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7"/>
              <p:cNvSpPr txBox="1"/>
              <p:nvPr/>
            </p:nvSpPr>
            <p:spPr>
              <a:xfrm>
                <a:off x="5486400" y="4800600"/>
                <a:ext cx="13716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Rectangle 8"/>
          <p:cNvSpPr/>
          <p:nvPr/>
        </p:nvSpPr>
        <p:spPr>
          <a:xfrm>
            <a:off x="5410080" y="5792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7"/>
          <p:cNvSpPr/>
          <p:nvPr/>
        </p:nvSpPr>
        <p:spPr>
          <a:xfrm>
            <a:off x="5486400" y="57913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6845400" y="13334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694224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5181480" y="5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0" y="3067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457200" y="1217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457200" y="1829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2"/>
              <p:cNvSpPr txBox="1"/>
              <p:nvPr/>
            </p:nvSpPr>
            <p:spPr>
              <a:xfrm>
                <a:off x="5334120" y="160020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5410080" y="274320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4"/>
              <p:cNvSpPr txBox="1"/>
              <p:nvPr/>
            </p:nvSpPr>
            <p:spPr>
              <a:xfrm>
                <a:off x="5486400" y="380988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Straight Connector 17"/>
          <p:cNvSpPr/>
          <p:nvPr/>
        </p:nvSpPr>
        <p:spPr>
          <a:xfrm flipV="1">
            <a:off x="6324480" y="28195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3"/>
          <p:cNvSpPr/>
          <p:nvPr/>
        </p:nvSpPr>
        <p:spPr>
          <a:xfrm flipV="1">
            <a:off x="6095880" y="335232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486400" y="434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581280" y="4953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952880" y="5335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4952880" y="5792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7"/>
          <p:cNvSpPr/>
          <p:nvPr/>
        </p:nvSpPr>
        <p:spPr>
          <a:xfrm>
            <a:off x="5486400" y="457344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6845400" y="1159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6942240" y="-144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5181480" y="-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457200" y="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457200" y="6123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5334120" y="38268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5410080" y="152568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5486400" y="259236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Straight Connector 17"/>
          <p:cNvSpPr/>
          <p:nvPr/>
        </p:nvSpPr>
        <p:spPr>
          <a:xfrm flipV="1">
            <a:off x="6324480" y="16012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3"/>
          <p:cNvSpPr/>
          <p:nvPr/>
        </p:nvSpPr>
        <p:spPr>
          <a:xfrm flipV="1">
            <a:off x="6095880" y="213480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486400" y="3126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581280" y="37364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4952880" y="4117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52880" y="4574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563868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80880" y="57020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 5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7"/>
          <p:cNvSpPr/>
          <p:nvPr/>
        </p:nvSpPr>
        <p:spPr>
          <a:xfrm>
            <a:off x="5486400" y="32767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6942240" y="-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5181480" y="-19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5410080" y="22860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4"/>
              <p:cNvSpPr txBox="1"/>
              <p:nvPr/>
            </p:nvSpPr>
            <p:spPr>
              <a:xfrm>
                <a:off x="5486400" y="129528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4" name="Straight Connector 17"/>
          <p:cNvSpPr/>
          <p:nvPr/>
        </p:nvSpPr>
        <p:spPr>
          <a:xfrm flipV="1">
            <a:off x="6324480" y="3049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3"/>
          <p:cNvSpPr/>
          <p:nvPr/>
        </p:nvSpPr>
        <p:spPr>
          <a:xfrm flipV="1">
            <a:off x="6095880" y="83772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5486400" y="182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3581280" y="2439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952880" y="282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4952880" y="327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434196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80880" y="44042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180360" y="57754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4114800" y="565452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1988280" y="5789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609480" y="533412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3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7"/>
          <p:cNvSpPr/>
          <p:nvPr/>
        </p:nvSpPr>
        <p:spPr>
          <a:xfrm>
            <a:off x="5486400" y="14479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6942240" y="-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5181480" y="-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581280" y="6105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4952880" y="991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4952880" y="144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251316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380880" y="25754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180360" y="3946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4114800" y="382572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1988280" y="3961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609480" y="350532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1621440" y="472536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248520" y="480276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1621440" y="5411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6"/>
          <p:cNvSpPr/>
          <p:nvPr/>
        </p:nvSpPr>
        <p:spPr>
          <a:xfrm>
            <a:off x="2895480" y="4038480"/>
            <a:ext cx="106704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200232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1926360" y="464940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1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591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598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6"/>
          <p:cNvSpPr/>
          <p:nvPr/>
        </p:nvSpPr>
        <p:spPr>
          <a:xfrm>
            <a:off x="28954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2"/>
          <p:cNvSpPr/>
          <p:nvPr/>
        </p:nvSpPr>
        <p:spPr>
          <a:xfrm>
            <a:off x="1926360" y="464940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9"/>
          <p:cNvSpPr/>
          <p:nvPr/>
        </p:nvSpPr>
        <p:spPr>
          <a:xfrm>
            <a:off x="28954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6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59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66" name="Oval 6"/>
          <p:cNvSpPr/>
          <p:nvPr/>
        </p:nvSpPr>
        <p:spPr>
          <a:xfrm>
            <a:off x="1600200" y="396252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289080"/>
            <a:ext cx="9144000" cy="30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-3240" y="319320"/>
            <a:ext cx="910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inomial Distribution revis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CEA 20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 and Tane are surfers. Tom successfully rides a wave o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 out of every 10 attempts, and Tane 6 out of every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ability that Tom &amp; Ta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ri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nex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ssumptions must be made to use the Binomial Distn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73" name="Oval 6"/>
          <p:cNvSpPr/>
          <p:nvPr/>
        </p:nvSpPr>
        <p:spPr>
          <a:xfrm>
            <a:off x="1600200" y="396252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6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34" name="Oval 6"/>
          <p:cNvSpPr/>
          <p:nvPr/>
        </p:nvSpPr>
        <p:spPr>
          <a:xfrm>
            <a:off x="1600200" y="38862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41" name="Oval 6"/>
          <p:cNvSpPr/>
          <p:nvPr/>
        </p:nvSpPr>
        <p:spPr>
          <a:xfrm>
            <a:off x="1600200" y="41148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2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"/>
          <p:cNvSpPr/>
          <p:nvPr/>
        </p:nvSpPr>
        <p:spPr>
          <a:xfrm>
            <a:off x="4648320" y="411480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48" name="Oval 6"/>
          <p:cNvSpPr/>
          <p:nvPr/>
        </p:nvSpPr>
        <p:spPr>
          <a:xfrm>
            <a:off x="1600200" y="41148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2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4"/>
          <p:cNvSpPr/>
          <p:nvPr/>
        </p:nvSpPr>
        <p:spPr>
          <a:xfrm>
            <a:off x="4648320" y="411480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1925640" y="46494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51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+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 P(</a:t>
            </a:r>
            <a:r>
              <a:rPr b="0" i="1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X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= 2) = </a:t>
            </a: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4"/>
          <p:cNvSpPr/>
          <p:nvPr/>
        </p:nvSpPr>
        <p:spPr>
          <a:xfrm>
            <a:off x="4648320" y="37339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:  Intro to the Poisso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 about what the Poisson Distribution is and its parameter,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 the 4 requirements for the use of the Poisson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lculate probabilities using the Poisson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arm-up: 2009 NCEA q. on the Binomial Dist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: Notes &amp; examples using the formula &amp; tables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most of less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W: Sigma - Old edition: Ex. 6.1 or New: Ex. 16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+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 P(</a:t>
            </a:r>
            <a:r>
              <a:rPr b="0" i="1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X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= 2) = </a:t>
            </a: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) = 0.8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"/>
          <p:cNvSpPr/>
          <p:nvPr/>
        </p:nvSpPr>
        <p:spPr>
          <a:xfrm>
            <a:off x="4648320" y="37339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4"/>
          <p:cNvSpPr/>
          <p:nvPr/>
        </p:nvSpPr>
        <p:spPr>
          <a:xfrm>
            <a:off x="2209680" y="5791320"/>
            <a:ext cx="1219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8"/>
          <p:cNvSpPr/>
          <p:nvPr/>
        </p:nvSpPr>
        <p:spPr>
          <a:xfrm>
            <a:off x="1905120" y="58662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4572000" y="5110200"/>
            <a:ext cx="4419720" cy="22273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Sig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 baseline="30000">
                <a:solidFill>
                  <a:srgbClr val="000000"/>
                </a:solidFill>
                <a:latin typeface="Times New Roman"/>
              </a:rPr>
              <a:t>Old edition: Ex. 6.1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 baseline="30000">
                <a:solidFill>
                  <a:srgbClr val="000000"/>
                </a:solidFill>
                <a:latin typeface="Times New Roman"/>
              </a:rPr>
              <a:t>New edition: Ex. 16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1925640" y="46494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51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1914120" y="51825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80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2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2:  Poisson probabilities using a Graphics calc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ractice calculating probabilities of combined events using the Poisson Distribution, using both tables and G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W q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roblem on board – how to use your G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old –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d): p84 – Ex. 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or in new version: p340 – Ex. 16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0.018315 + 0.073262 + 0.14652 + 0.1953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oisson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als with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occurrence in a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ver a give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continuous interval (time/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yea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excluding after-shock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quare 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week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Christ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P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 Tables vs Graphics Calc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Setting out of working when using your Graphics Calculat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Calculate  P (</a:t>
            </a:r>
            <a:r>
              <a:rPr b="0" i="1" lang="en-N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3) for </a:t>
            </a:r>
            <a:r>
              <a:rPr b="1" lang="en-NZ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P(</a:t>
            </a:r>
            <a:r>
              <a:rPr b="0" i="1" lang="en-N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Arial Black"/>
              </a:rPr>
              <a:t>&gt;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3)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  1 –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P(</a:t>
            </a:r>
            <a:r>
              <a:rPr b="0" i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 Black"/>
              </a:rPr>
              <a:t>&lt;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  1 –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433457  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(G.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=  0.5665(4s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457200"/>
            <a:ext cx="9144000" cy="396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P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0" y="0"/>
            <a:ext cx="9144000" cy="722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6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1905120" y="30700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397080" y="-56880"/>
            <a:ext cx="85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an number of volcanic eruptions on White Island is 1.2 p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ear. Calculate the probability that there are more than 2 in on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17960" y="1486440"/>
            <a:ext cx="15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1793160" y="14799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–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2796120" y="152280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s this is infinite, rewrite &gt; in terms of ≤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1519200" y="229428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– 0.879 48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.C.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1519200" y="31089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120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380520" y="784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3"/>
          <p:cNvSpPr/>
          <p:nvPr/>
        </p:nvSpPr>
        <p:spPr>
          <a:xfrm>
            <a:off x="930240" y="78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838080" y="4495680"/>
            <a:ext cx="7543800" cy="132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84: Ex.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0 – Ex. 16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3:  Inverse Poisson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variance &amp; standard deviation of a Poisson probability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olve inverse Poisson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ARTER: Look at a graph of the Poisson Distribution (see Sigma workbook 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Variance &amp; SD of Poisson – notes &amp; e.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igma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d: p89 – Ex. 6.3;  New Sigma: p344 – Ex. 16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2.  Inverse Poisson problems – notes &amp; e.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igma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d: p90 – Ex. 6.4;  New Sigma: p347 – Ex. 16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-15840" y="380880"/>
            <a:ext cx="92851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2514600"/>
            <a:ext cx="9144000" cy="774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3086280" y="4503600"/>
            <a:ext cx="88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6845400" y="8724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152280" y="2444760"/>
            <a:ext cx="62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isson distribution has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.6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What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97800" y="335664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5722920" y="638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Object 9"/>
          <p:cNvGraphicFramePr/>
          <p:nvPr/>
        </p:nvGraphicFramePr>
        <p:xfrm>
          <a:off x="3102120" y="3384720"/>
          <a:ext cx="4554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2120" y="3384720"/>
                    <a:ext cx="455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10"/>
          <p:cNvGraphicFramePr/>
          <p:nvPr/>
        </p:nvGraphicFramePr>
        <p:xfrm>
          <a:off x="2852640" y="3952800"/>
          <a:ext cx="9525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952800"/>
                    <a:ext cx="952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11"/>
          <p:cNvGraphicFramePr/>
          <p:nvPr/>
        </p:nvGraphicFramePr>
        <p:xfrm>
          <a:off x="2852640" y="4618080"/>
          <a:ext cx="1015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2640" y="4618080"/>
                    <a:ext cx="1015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Text Box 19"/>
          <p:cNvSpPr/>
          <p:nvPr/>
        </p:nvSpPr>
        <p:spPr>
          <a:xfrm>
            <a:off x="0" y="5334120"/>
            <a:ext cx="9144000" cy="132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89: Ex. 6.3 – Q3 &amp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5 – Ex. 16.03 – Q4 &amp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Variance &amp; Standard Deviation of a Poisson Dis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= mean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also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=varianc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  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15"/>
          <p:cNvGraphicFramePr/>
          <p:nvPr/>
        </p:nvGraphicFramePr>
        <p:xfrm>
          <a:off x="5257800" y="1371600"/>
          <a:ext cx="6382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371600"/>
                    <a:ext cx="638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6845400" y="4152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8"/>
          <p:cNvSpPr/>
          <p:nvPr/>
        </p:nvSpPr>
        <p:spPr>
          <a:xfrm>
            <a:off x="5722920" y="18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to solve Inverse Poisso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0" y="203184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4"/>
          <p:cNvSpPr/>
          <p:nvPr/>
        </p:nvSpPr>
        <p:spPr>
          <a:xfrm>
            <a:off x="400320" y="198000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Object 15"/>
          <p:cNvGraphicFramePr/>
          <p:nvPr/>
        </p:nvGraphicFramePr>
        <p:xfrm>
          <a:off x="644400" y="2809800"/>
          <a:ext cx="20829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809800"/>
                    <a:ext cx="2082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Rectangle 16"/>
          <p:cNvSpPr/>
          <p:nvPr/>
        </p:nvSpPr>
        <p:spPr>
          <a:xfrm>
            <a:off x="3352680" y="274176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"/>
          <p:cNvSpPr/>
          <p:nvPr/>
        </p:nvSpPr>
        <p:spPr>
          <a:xfrm>
            <a:off x="0" y="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1752480" y="4114800"/>
            <a:ext cx="1752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400320" y="-5184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8782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8"/>
          <p:cNvGraphicFramePr/>
          <p:nvPr/>
        </p:nvGraphicFramePr>
        <p:xfrm>
          <a:off x="568440" y="828720"/>
          <a:ext cx="2082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828720"/>
                    <a:ext cx="2082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Rectangle 9"/>
          <p:cNvSpPr/>
          <p:nvPr/>
        </p:nvSpPr>
        <p:spPr>
          <a:xfrm>
            <a:off x="3276720" y="760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Object 10"/>
          <p:cNvGraphicFramePr/>
          <p:nvPr/>
        </p:nvGraphicFramePr>
        <p:xfrm>
          <a:off x="514440" y="1892160"/>
          <a:ext cx="2125440" cy="3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1892160"/>
                    <a:ext cx="21254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Rectangle 11"/>
          <p:cNvSpPr/>
          <p:nvPr/>
        </p:nvSpPr>
        <p:spPr>
          <a:xfrm>
            <a:off x="3236760" y="2513520"/>
            <a:ext cx="56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"/>
          <p:cNvSpPr/>
          <p:nvPr/>
        </p:nvSpPr>
        <p:spPr>
          <a:xfrm>
            <a:off x="250668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974320" y="17514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Simplify, us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0!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both equa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15"/>
          <p:cNvGraphicFramePr/>
          <p:nvPr/>
        </p:nvGraphicFramePr>
        <p:xfrm>
          <a:off x="420840" y="2622600"/>
          <a:ext cx="2717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840" y="2622600"/>
                    <a:ext cx="2717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Rectangle 19"/>
          <p:cNvSpPr/>
          <p:nvPr/>
        </p:nvSpPr>
        <p:spPr>
          <a:xfrm>
            <a:off x="0" y="510552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"/>
          <p:cNvSpPr/>
          <p:nvPr/>
        </p:nvSpPr>
        <p:spPr>
          <a:xfrm>
            <a:off x="367560" y="5104080"/>
            <a:ext cx="85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ast one fault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3"/>
          <p:cNvSpPr/>
          <p:nvPr/>
        </p:nvSpPr>
        <p:spPr>
          <a:xfrm>
            <a:off x="3505680" y="332640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4"/>
          <p:cNvSpPr/>
          <p:nvPr/>
        </p:nvSpPr>
        <p:spPr>
          <a:xfrm flipV="1">
            <a:off x="5921280" y="365724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5"/>
          <p:cNvSpPr/>
          <p:nvPr/>
        </p:nvSpPr>
        <p:spPr>
          <a:xfrm flipV="1">
            <a:off x="6149880" y="3504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990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1066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oisson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als with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occurrence in a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ver a given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continuous interval (time/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yea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Christ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1752480" y="4114800"/>
            <a:ext cx="1752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400320" y="-5184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28782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Object 8"/>
          <p:cNvGraphicFramePr/>
          <p:nvPr/>
        </p:nvGraphicFramePr>
        <p:xfrm>
          <a:off x="568440" y="828720"/>
          <a:ext cx="2082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828720"/>
                    <a:ext cx="2082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Rectangle 9"/>
          <p:cNvSpPr/>
          <p:nvPr/>
        </p:nvSpPr>
        <p:spPr>
          <a:xfrm>
            <a:off x="3276720" y="760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Object 10"/>
          <p:cNvGraphicFramePr/>
          <p:nvPr/>
        </p:nvGraphicFramePr>
        <p:xfrm>
          <a:off x="514440" y="1892160"/>
          <a:ext cx="2125440" cy="3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1892160"/>
                    <a:ext cx="21254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Rectangle 11"/>
          <p:cNvSpPr/>
          <p:nvPr/>
        </p:nvSpPr>
        <p:spPr>
          <a:xfrm>
            <a:off x="3236760" y="2513520"/>
            <a:ext cx="56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250668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4"/>
          <p:cNvSpPr/>
          <p:nvPr/>
        </p:nvSpPr>
        <p:spPr>
          <a:xfrm>
            <a:off x="2974320" y="17514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Simplify, us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0!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both equa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15"/>
          <p:cNvGraphicFramePr/>
          <p:nvPr/>
        </p:nvGraphicFramePr>
        <p:xfrm>
          <a:off x="420840" y="2622600"/>
          <a:ext cx="2717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9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840" y="2622600"/>
                    <a:ext cx="2717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Rectangle 19"/>
          <p:cNvSpPr/>
          <p:nvPr/>
        </p:nvSpPr>
        <p:spPr>
          <a:xfrm>
            <a:off x="0" y="510552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0"/>
          <p:cNvSpPr/>
          <p:nvPr/>
        </p:nvSpPr>
        <p:spPr>
          <a:xfrm>
            <a:off x="398880" y="510372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1"/>
          <p:cNvSpPr/>
          <p:nvPr/>
        </p:nvSpPr>
        <p:spPr>
          <a:xfrm>
            <a:off x="3657600" y="609588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First choose the random variable,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3"/>
          <p:cNvSpPr/>
          <p:nvPr/>
        </p:nvSpPr>
        <p:spPr>
          <a:xfrm>
            <a:off x="3505680" y="332640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4"/>
          <p:cNvSpPr/>
          <p:nvPr/>
        </p:nvSpPr>
        <p:spPr>
          <a:xfrm flipV="1">
            <a:off x="5921280" y="365724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5"/>
          <p:cNvSpPr/>
          <p:nvPr/>
        </p:nvSpPr>
        <p:spPr>
          <a:xfrm flipV="1">
            <a:off x="6149880" y="3504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6"/>
          <p:cNvSpPr/>
          <p:nvPr/>
        </p:nvSpPr>
        <p:spPr>
          <a:xfrm>
            <a:off x="990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7"/>
          <p:cNvSpPr/>
          <p:nvPr/>
        </p:nvSpPr>
        <p:spPr>
          <a:xfrm>
            <a:off x="1066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8"/>
          <p:cNvSpPr/>
          <p:nvPr/>
        </p:nvSpPr>
        <p:spPr>
          <a:xfrm>
            <a:off x="2057400" y="83808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"/>
          <p:cNvSpPr/>
          <p:nvPr/>
        </p:nvSpPr>
        <p:spPr>
          <a:xfrm>
            <a:off x="0" y="146988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398880" y="146844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407520" y="235152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be ‘the number of faults per sampl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388440" y="2794680"/>
            <a:ext cx="37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Poisson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395640" y="352944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iven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) =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424440" y="4004280"/>
            <a:ext cx="19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3964680" y="559332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and 0! both equal 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Object 12"/>
          <p:cNvGraphicFramePr/>
          <p:nvPr/>
        </p:nvGraphicFramePr>
        <p:xfrm>
          <a:off x="485640" y="4795920"/>
          <a:ext cx="16257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795920"/>
                    <a:ext cx="1625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13"/>
          <p:cNvSpPr/>
          <p:nvPr/>
        </p:nvSpPr>
        <p:spPr>
          <a:xfrm>
            <a:off x="2065320" y="582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Object 14"/>
          <p:cNvGraphicFramePr/>
          <p:nvPr/>
        </p:nvGraphicFramePr>
        <p:xfrm>
          <a:off x="444600" y="5748480"/>
          <a:ext cx="169524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5748480"/>
                    <a:ext cx="1695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Rectangle 15"/>
          <p:cNvSpPr/>
          <p:nvPr/>
        </p:nvSpPr>
        <p:spPr>
          <a:xfrm>
            <a:off x="3886200" y="2352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irst choose the random variable,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6"/>
          <p:cNvSpPr/>
          <p:nvPr/>
        </p:nvSpPr>
        <p:spPr>
          <a:xfrm>
            <a:off x="4015440" y="448956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7"/>
          <p:cNvSpPr/>
          <p:nvPr/>
        </p:nvSpPr>
        <p:spPr>
          <a:xfrm>
            <a:off x="3875400" y="6247440"/>
            <a:ext cx="49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9"/>
          <p:cNvSpPr/>
          <p:nvPr/>
        </p:nvSpPr>
        <p:spPr>
          <a:xfrm>
            <a:off x="3120480" y="33213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s ≥ is infinite (no upper limit), we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complement, knowing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X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&g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) = 1- P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0"/>
          <p:cNvSpPr/>
          <p:nvPr/>
        </p:nvSpPr>
        <p:spPr>
          <a:xfrm>
            <a:off x="1295280" y="152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1371600" y="914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2"/>
          <p:cNvSpPr/>
          <p:nvPr/>
        </p:nvSpPr>
        <p:spPr>
          <a:xfrm>
            <a:off x="3810600" y="20232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33"/>
          <p:cNvSpPr/>
          <p:nvPr/>
        </p:nvSpPr>
        <p:spPr>
          <a:xfrm flipV="1">
            <a:off x="6248520" y="533160"/>
            <a:ext cx="7596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4"/>
          <p:cNvSpPr/>
          <p:nvPr/>
        </p:nvSpPr>
        <p:spPr>
          <a:xfrm flipV="1">
            <a:off x="6477120" y="380880"/>
            <a:ext cx="7596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0" y="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1600200" y="6095880"/>
            <a:ext cx="18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398880" y="-180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407520" y="88164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be ‘the number of faults per sampl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388440" y="1324440"/>
            <a:ext cx="37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Poisson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395640" y="205956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iven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) =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"/>
          <p:cNvSpPr/>
          <p:nvPr/>
        </p:nvSpPr>
        <p:spPr>
          <a:xfrm>
            <a:off x="424440" y="2534040"/>
            <a:ext cx="19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Object 12"/>
          <p:cNvGraphicFramePr/>
          <p:nvPr/>
        </p:nvGraphicFramePr>
        <p:xfrm>
          <a:off x="533520" y="3352680"/>
          <a:ext cx="16254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625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Rectangle 13"/>
          <p:cNvSpPr/>
          <p:nvPr/>
        </p:nvSpPr>
        <p:spPr>
          <a:xfrm>
            <a:off x="2065320" y="582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Object 14"/>
          <p:cNvGraphicFramePr/>
          <p:nvPr/>
        </p:nvGraphicFramePr>
        <p:xfrm>
          <a:off x="444600" y="4278240"/>
          <a:ext cx="169524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4278240"/>
                    <a:ext cx="1695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Rectangle 17"/>
          <p:cNvSpPr/>
          <p:nvPr/>
        </p:nvSpPr>
        <p:spPr>
          <a:xfrm>
            <a:off x="3875400" y="4777200"/>
            <a:ext cx="49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3680280" y="546012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Object 22"/>
          <p:cNvGraphicFramePr/>
          <p:nvPr/>
        </p:nvGraphicFramePr>
        <p:xfrm>
          <a:off x="304920" y="4876920"/>
          <a:ext cx="22730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876920"/>
                    <a:ext cx="22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Line 24"/>
          <p:cNvSpPr/>
          <p:nvPr/>
        </p:nvSpPr>
        <p:spPr>
          <a:xfrm flipV="1">
            <a:off x="6095880" y="5790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5"/>
          <p:cNvSpPr/>
          <p:nvPr/>
        </p:nvSpPr>
        <p:spPr>
          <a:xfrm flipV="1">
            <a:off x="6324480" y="5638680"/>
            <a:ext cx="7632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26"/>
          <p:cNvSpPr/>
          <p:nvPr/>
        </p:nvSpPr>
        <p:spPr>
          <a:xfrm>
            <a:off x="3044520" y="213228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s ≥ is infinite (no upper limit), we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complement, knowing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X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&g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) = 1- P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91440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0.510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9"/>
          <p:cNvSpPr/>
          <p:nvPr/>
        </p:nvSpPr>
        <p:spPr>
          <a:xfrm>
            <a:off x="8380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9"/>
          <p:cNvSpPr/>
          <p:nvPr/>
        </p:nvSpPr>
        <p:spPr>
          <a:xfrm>
            <a:off x="0" y="838080"/>
            <a:ext cx="9144000" cy="2064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90: Ex.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7 – Ex. 16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omplete for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4:  Problems that involve the use of more than 1 type of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980720"/>
            <a:ext cx="81532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lve problems involving a mixture of all 3 types of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Key skill: identifying the appropriate distribution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STARTER:  Go over HW qs from Inverse Poisson chapter in Sig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 Revision worksheet for all 3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 Do Sigma (NEW): p384 – Ex. 18.03.  Finish Q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0" y="1295280"/>
            <a:ext cx="9144000" cy="17618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0" y="1295280"/>
            <a:ext cx="9144000" cy="200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0" y="129528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0" y="2983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0" y="129528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8"/>
          <p:cNvSpPr/>
          <p:nvPr/>
        </p:nvSpPr>
        <p:spPr>
          <a:xfrm>
            <a:off x="0" y="2983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t an athletics meeting, the highest successful attempt at the high-jump by different athletes is known to be normally distributed with a mean of 1.4m and a standard deviation of 1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n athlete chosen at random can jump 1.5m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. that 2 consecutive athletes chosen at random both fail to jump 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3 athletes are chosen at random, calculate the prob. that all three of them have a highest successful jump between 1.2 &amp; 1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"/>
          <p:cNvSpPr/>
          <p:nvPr/>
        </p:nvSpPr>
        <p:spPr>
          <a:xfrm>
            <a:off x="0" y="20322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t an athletics meeting, the highest successful attempt at the high-jump by different athletes is known to be normally distributed with a mean of 1.4m and a standard deviation of 1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n athlete chosen at random can jump 1.5m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. that 2 consecutive athletes chosen at random both fail to jump 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3 athletes are chosen at random, calculate the prob. that all three of them have a highest successful jump between 1.2 &amp; 1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nly one out of three athle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hosen at random can ju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ver 1.6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EXTENSION SESSION: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Approximations – approximating between all 3 distrib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51920" y="1752480"/>
            <a:ext cx="89917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Solve problems involving a mixture of all 3 types of distrib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Key skill: identifying the appropriate distribution to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Handout on approximations (flow-chart).  View applet (graphical demonstration using bar graph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Problems to get the hang of approximating – all in Sigma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ed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Approximating betwe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the Binomial with the Poisson: p121 – Ex. 8.2 Q1 &amp; 2 on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the Poisson with the Normal:  p123– Ex. 8.3 Q1 &amp; 2 on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mixed approximation problems: p125 – Ex. 8.4. 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HW:  Challenge problem s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ver a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given continuous interval (time/spa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yea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n Christ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04920" y="3124080"/>
            <a:ext cx="7772400" cy="2571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’ll be using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oisson Distributio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o calculate the probability of an event occurring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04920" y="5943600"/>
            <a:ext cx="7772400" cy="6426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s the Greek symbo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Only in scholarship exam now – see first version of NuLake (2004) for concis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 chapter in Sigma 2</a:t>
            </a:r>
            <a:r>
              <a:rPr b="0" i="1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Approximating from the Binomial Distribution to the Poi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n only use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extreme (probabilities are very close to 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Question: Why must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large and </a:t>
            </a:r>
            <a:r>
              <a:rPr b="0" lang="en-N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close to 0 or 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Hint: What do the Binomial and Poisson Dists have in comm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oth model how often an event occurs (counting – discre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Another hi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3989520" y="2514600"/>
            <a:ext cx="1523880" cy="10688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152280" y="3429000"/>
            <a:ext cx="8077320" cy="1556280"/>
          </a:xfrm>
          <a:prstGeom prst="rect">
            <a:avLst/>
          </a:prstGeom>
          <a:solidFill>
            <a:srgbClr val="ffffff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“Comparing Models” handout, JUST THE FIRST PAGE.  (from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chieving in Statistics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workboo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Approximating from the Binomial Distribution to the Poi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n only use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extreme (probabilities are very close to 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Question: Why must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large and </a:t>
            </a:r>
            <a:r>
              <a:rPr b="0" lang="en-N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close to 0 or 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Hint: What do the Binomial and Poisson Dists have in comm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oth model how often an event occurs (counting – discre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Another hint: What is different about the Binomial &amp; Poisson distribu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inomial used when event occurs within a fixed number of trials (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discrete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Poisson used when event occurs within a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inuous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inter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3989520" y="2514600"/>
            <a:ext cx="1523880" cy="10688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 challeng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ble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a certain suburb, 30% of new homes are built with an outdoor bbq area, and 2% of new homes require alterations after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andom sample of 50 homes is to be taken.  Find the probability that no more than 20 homes in this sample will be built with an outdoor bbq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other sample of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w homes is to be taken. Find the value of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 that the probability that the sample contains no homes requiring alterations is approximately 0.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 challeng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ble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858960" y="2133720"/>
            <a:ext cx="6808680" cy="324000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4"/>
          <p:cNvSpPr/>
          <p:nvPr/>
        </p:nvSpPr>
        <p:spPr>
          <a:xfrm>
            <a:off x="555480" y="2124000"/>
            <a:ext cx="6066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240" y="1676520"/>
            <a:ext cx="8534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800" spc="-1" strike="noStrike">
                <a:solidFill>
                  <a:srgbClr val="000000"/>
                </a:solidFill>
                <a:latin typeface="Comic Sans MS"/>
              </a:rPr>
              <a:t>TEST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Formative assessment of AS9064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457200" y="45720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-35640" y="33526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3" name="Object 3"/>
          <p:cNvGraphicFramePr/>
          <p:nvPr/>
        </p:nvGraphicFramePr>
        <p:xfrm>
          <a:off x="1295280" y="3657600"/>
          <a:ext cx="221004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57600"/>
                    <a:ext cx="22100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4"/>
          <p:cNvGraphicFramePr/>
          <p:nvPr/>
        </p:nvGraphicFramePr>
        <p:xfrm>
          <a:off x="4475160" y="1860480"/>
          <a:ext cx="421164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1860480"/>
                    <a:ext cx="42116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Rectangle 5"/>
          <p:cNvSpPr/>
          <p:nvPr/>
        </p:nvSpPr>
        <p:spPr>
          <a:xfrm>
            <a:off x="304920" y="74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: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 product has a normally distributed weight with μ = 1kg.  If the risk of marketing a product more than 50g underweight must be less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%, what is the maximum allowable standard devi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t X be a random variable representing the weight of the product in 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564480" y="2056680"/>
            <a:ext cx="46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50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914040" y="2773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329040" y="4570920"/>
            <a:ext cx="69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maximum value of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ake     P( Z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382680" y="4615920"/>
            <a:ext cx="56671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Object 10"/>
          <p:cNvGraphicFramePr/>
          <p:nvPr/>
        </p:nvGraphicFramePr>
        <p:xfrm>
          <a:off x="1905120" y="3048120"/>
          <a:ext cx="16761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048120"/>
                    <a:ext cx="167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11"/>
          <p:cNvGraphicFramePr/>
          <p:nvPr/>
        </p:nvGraphicFramePr>
        <p:xfrm>
          <a:off x="4648320" y="4267080"/>
          <a:ext cx="2209680" cy="95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267080"/>
                    <a:ext cx="22096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Rectangle 13"/>
          <p:cNvSpPr/>
          <p:nvPr/>
        </p:nvSpPr>
        <p:spPr>
          <a:xfrm>
            <a:off x="-10800" y="4972320"/>
            <a:ext cx="4146120" cy="88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, we can use tables or graphics ca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find, based on prob of 0.01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=-2.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4"/>
          <p:cNvSpPr/>
          <p:nvPr/>
        </p:nvSpPr>
        <p:spPr>
          <a:xfrm>
            <a:off x="531360" y="6023880"/>
            <a:ext cx="3422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-arranging to solve for </a:t>
            </a:r>
            <a:r>
              <a:rPr b="1" i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15"/>
              <p:cNvSpPr txBox="1"/>
              <p:nvPr/>
            </p:nvSpPr>
            <p:spPr>
              <a:xfrm>
                <a:off x="4267080" y="5029200"/>
                <a:ext cx="2438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228600" y="6400800"/>
            <a:ext cx="8305920" cy="4572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-35640" y="33526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Object 4"/>
          <p:cNvGraphicFramePr/>
          <p:nvPr/>
        </p:nvGraphicFramePr>
        <p:xfrm>
          <a:off x="4475160" y="1860480"/>
          <a:ext cx="42116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5160" y="1860480"/>
                    <a:ext cx="42116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Rectangle 5"/>
          <p:cNvSpPr/>
          <p:nvPr/>
        </p:nvSpPr>
        <p:spPr>
          <a:xfrm>
            <a:off x="304920" y="74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: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 product has a normally distributed weight with μ = 1kg.  If the risk of marketing a product more than 50g underweight must be less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%, what is the maximum allowable standard devi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t X be a random variable representing the weight of the product in 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564480" y="2056680"/>
            <a:ext cx="46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50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914040" y="2773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329040" y="4570920"/>
            <a:ext cx="69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maximum value of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ake     P( Z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332280" y="4615920"/>
            <a:ext cx="9147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2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21.5 is the maximum allowable standard deviation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Object 10"/>
          <p:cNvGraphicFramePr/>
          <p:nvPr/>
        </p:nvGraphicFramePr>
        <p:xfrm>
          <a:off x="1905120" y="3048120"/>
          <a:ext cx="16761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048120"/>
                    <a:ext cx="167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Rectangle 12"/>
          <p:cNvSpPr/>
          <p:nvPr/>
        </p:nvSpPr>
        <p:spPr>
          <a:xfrm>
            <a:off x="-10800" y="4972320"/>
            <a:ext cx="4146120" cy="88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, we can use tables or graphics ca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find, based on prob of 0.01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=-2.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3"/>
          <p:cNvSpPr/>
          <p:nvPr/>
        </p:nvSpPr>
        <p:spPr>
          <a:xfrm>
            <a:off x="531360" y="6023880"/>
            <a:ext cx="3422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-arranging to solve for </a:t>
            </a:r>
            <a:r>
              <a:rPr b="1" i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8"/>
              <p:cNvSpPr txBox="1"/>
              <p:nvPr/>
            </p:nvSpPr>
            <p:spPr>
              <a:xfrm>
                <a:off x="4237200" y="5029200"/>
                <a:ext cx="227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n Christ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80880" y="4995720"/>
            <a:ext cx="7772400" cy="1169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380880" y="2362320"/>
            <a:ext cx="7772400" cy="2571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’ll be using the Poisson Distribution to calculate the probability of an event occurring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7.0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-11160" y="225360"/>
            <a:ext cx="893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proportion of overweight suitcases weigh less than 22 k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0" y="0"/>
            <a:ext cx="9144000" cy="2176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-19800" y="2284560"/>
            <a:ext cx="91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Use your graphics calculator to work out the probability that a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ing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suitcase is overweight to 4 s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"/>
          <p:cNvSpPr/>
          <p:nvPr/>
        </p:nvSpPr>
        <p:spPr>
          <a:xfrm>
            <a:off x="0" y="0"/>
            <a:ext cx="9144000" cy="2176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426240" y="2184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ex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1680120" y="2635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22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1667520" y="2184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"/>
          <p:cNvSpPr/>
          <p:nvPr/>
        </p:nvSpPr>
        <p:spPr>
          <a:xfrm>
            <a:off x="152280" y="281880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Draw a tree diagram to show the possibilities for two suitcases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"/>
          <p:cNvSpPr/>
          <p:nvPr/>
        </p:nvSpPr>
        <p:spPr>
          <a:xfrm>
            <a:off x="419760" y="22356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3759120" y="6103800"/>
            <a:ext cx="88596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412200" y="56584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two cases over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7"/>
          <p:cNvSpPr/>
          <p:nvPr/>
        </p:nvSpPr>
        <p:spPr>
          <a:xfrm>
            <a:off x="3421080" y="56552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226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3458880" y="61203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0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9"/>
          <p:cNvSpPr/>
          <p:nvPr/>
        </p:nvSpPr>
        <p:spPr>
          <a:xfrm>
            <a:off x="419760" y="22356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0"/>
          <p:cNvSpPr/>
          <p:nvPr/>
        </p:nvSpPr>
        <p:spPr>
          <a:xfrm>
            <a:off x="501480" y="2730600"/>
            <a:ext cx="8642520" cy="28684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1"/>
          <p:cNvGrpSpPr/>
          <p:nvPr/>
        </p:nvGrpSpPr>
        <p:grpSpPr>
          <a:xfrm>
            <a:off x="952560" y="3195720"/>
            <a:ext cx="3668760" cy="1848600"/>
            <a:chOff x="952560" y="3195720"/>
            <a:chExt cx="3668760" cy="1848600"/>
          </a:xfrm>
        </p:grpSpPr>
        <p:grpSp>
          <p:nvGrpSpPr>
            <p:cNvPr id="1093" name="Group 12"/>
            <p:cNvGrpSpPr/>
            <p:nvPr/>
          </p:nvGrpSpPr>
          <p:grpSpPr>
            <a:xfrm>
              <a:off x="952560" y="3522240"/>
              <a:ext cx="1452240" cy="1302840"/>
              <a:chOff x="952560" y="3522240"/>
              <a:chExt cx="1452240" cy="1302840"/>
            </a:xfrm>
          </p:grpSpPr>
          <p:sp>
            <p:nvSpPr>
              <p:cNvPr id="1094" name="Line 13"/>
              <p:cNvSpPr/>
              <p:nvPr/>
            </p:nvSpPr>
            <p:spPr>
              <a:xfrm flipV="1">
                <a:off x="952560" y="3522240"/>
                <a:ext cx="1452240" cy="650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14"/>
              <p:cNvSpPr/>
              <p:nvPr/>
            </p:nvSpPr>
            <p:spPr>
              <a:xfrm>
                <a:off x="952560" y="4174560"/>
                <a:ext cx="1452240" cy="650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Text Box 15"/>
            <p:cNvSpPr/>
            <p:nvPr/>
          </p:nvSpPr>
          <p:spPr>
            <a:xfrm>
              <a:off x="2454120" y="3195720"/>
              <a:ext cx="17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6"/>
            <p:cNvSpPr/>
            <p:nvPr/>
          </p:nvSpPr>
          <p:spPr>
            <a:xfrm>
              <a:off x="2454120" y="4584600"/>
              <a:ext cx="21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17"/>
          <p:cNvGrpSpPr/>
          <p:nvPr/>
        </p:nvGrpSpPr>
        <p:grpSpPr>
          <a:xfrm>
            <a:off x="4287960" y="2703600"/>
            <a:ext cx="4317840" cy="1385280"/>
            <a:chOff x="4287960" y="2703600"/>
            <a:chExt cx="4317840" cy="1385280"/>
          </a:xfrm>
        </p:grpSpPr>
        <p:grpSp>
          <p:nvGrpSpPr>
            <p:cNvPr id="1099" name="Group 18"/>
            <p:cNvGrpSpPr/>
            <p:nvPr/>
          </p:nvGrpSpPr>
          <p:grpSpPr>
            <a:xfrm>
              <a:off x="4287960" y="2970000"/>
              <a:ext cx="2040840" cy="889200"/>
              <a:chOff x="4287960" y="2970000"/>
              <a:chExt cx="2040840" cy="889200"/>
            </a:xfrm>
          </p:grpSpPr>
          <p:sp>
            <p:nvSpPr>
              <p:cNvPr id="1100" name="Line 19"/>
              <p:cNvSpPr/>
              <p:nvPr/>
            </p:nvSpPr>
            <p:spPr>
              <a:xfrm flipV="1">
                <a:off x="4287960" y="297000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20"/>
              <p:cNvSpPr/>
              <p:nvPr/>
            </p:nvSpPr>
            <p:spPr>
              <a:xfrm>
                <a:off x="4287960" y="341532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Text Box 21"/>
            <p:cNvSpPr/>
            <p:nvPr/>
          </p:nvSpPr>
          <p:spPr>
            <a:xfrm>
              <a:off x="6400800" y="270360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22"/>
            <p:cNvSpPr/>
            <p:nvPr/>
          </p:nvSpPr>
          <p:spPr>
            <a:xfrm>
              <a:off x="6438960" y="3629160"/>
              <a:ext cx="21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23"/>
          <p:cNvGrpSpPr/>
          <p:nvPr/>
        </p:nvGrpSpPr>
        <p:grpSpPr>
          <a:xfrm>
            <a:off x="4287960" y="4197240"/>
            <a:ext cx="4317840" cy="1385280"/>
            <a:chOff x="4287960" y="4197240"/>
            <a:chExt cx="4317840" cy="1385280"/>
          </a:xfrm>
        </p:grpSpPr>
        <p:grpSp>
          <p:nvGrpSpPr>
            <p:cNvPr id="1105" name="Group 24"/>
            <p:cNvGrpSpPr/>
            <p:nvPr/>
          </p:nvGrpSpPr>
          <p:grpSpPr>
            <a:xfrm>
              <a:off x="4287960" y="4463640"/>
              <a:ext cx="2040840" cy="889200"/>
              <a:chOff x="4287960" y="4463640"/>
              <a:chExt cx="2040840" cy="889200"/>
            </a:xfrm>
          </p:grpSpPr>
          <p:sp>
            <p:nvSpPr>
              <p:cNvPr id="1106" name="Line 25"/>
              <p:cNvSpPr/>
              <p:nvPr/>
            </p:nvSpPr>
            <p:spPr>
              <a:xfrm flipV="1">
                <a:off x="4287960" y="446364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26"/>
              <p:cNvSpPr/>
              <p:nvPr/>
            </p:nvSpPr>
            <p:spPr>
              <a:xfrm>
                <a:off x="4287960" y="490896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Text Box 27"/>
            <p:cNvSpPr/>
            <p:nvPr/>
          </p:nvSpPr>
          <p:spPr>
            <a:xfrm>
              <a:off x="6400800" y="419724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28"/>
            <p:cNvSpPr/>
            <p:nvPr/>
          </p:nvSpPr>
          <p:spPr>
            <a:xfrm>
              <a:off x="6438960" y="5122800"/>
              <a:ext cx="21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29"/>
          <p:cNvSpPr/>
          <p:nvPr/>
        </p:nvSpPr>
        <p:spPr>
          <a:xfrm>
            <a:off x="1068840" y="33310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0.22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068840" y="45853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0.77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31"/>
          <p:cNvGrpSpPr/>
          <p:nvPr/>
        </p:nvGrpSpPr>
        <p:grpSpPr>
          <a:xfrm>
            <a:off x="4659840" y="2805840"/>
            <a:ext cx="884880" cy="2716560"/>
            <a:chOff x="4659840" y="2805840"/>
            <a:chExt cx="884880" cy="2716560"/>
          </a:xfrm>
        </p:grpSpPr>
        <p:sp>
          <p:nvSpPr>
            <p:cNvPr id="1113" name="Rectangle 32"/>
            <p:cNvSpPr/>
            <p:nvPr/>
          </p:nvSpPr>
          <p:spPr>
            <a:xfrm>
              <a:off x="4659840" y="280584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22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33"/>
            <p:cNvSpPr/>
            <p:nvPr/>
          </p:nvSpPr>
          <p:spPr>
            <a:xfrm>
              <a:off x="4659840" y="429480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22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34"/>
            <p:cNvSpPr/>
            <p:nvPr/>
          </p:nvSpPr>
          <p:spPr>
            <a:xfrm>
              <a:off x="4659840" y="36694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77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35"/>
            <p:cNvSpPr/>
            <p:nvPr/>
          </p:nvSpPr>
          <p:spPr>
            <a:xfrm>
              <a:off x="4659840" y="51235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77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36"/>
          <p:cNvGrpSpPr/>
          <p:nvPr/>
        </p:nvGrpSpPr>
        <p:grpSpPr>
          <a:xfrm>
            <a:off x="947880" y="2596320"/>
            <a:ext cx="7718040" cy="1578960"/>
            <a:chOff x="947880" y="2596320"/>
            <a:chExt cx="7718040" cy="1578960"/>
          </a:xfrm>
        </p:grpSpPr>
        <p:grpSp>
          <p:nvGrpSpPr>
            <p:cNvPr id="1118" name="Group 37"/>
            <p:cNvGrpSpPr/>
            <p:nvPr/>
          </p:nvGrpSpPr>
          <p:grpSpPr>
            <a:xfrm>
              <a:off x="947880" y="2966760"/>
              <a:ext cx="5376600" cy="1208520"/>
              <a:chOff x="947880" y="2966760"/>
              <a:chExt cx="5376600" cy="1208520"/>
            </a:xfrm>
          </p:grpSpPr>
          <p:sp>
            <p:nvSpPr>
              <p:cNvPr id="1119" name="Line 38"/>
              <p:cNvSpPr/>
              <p:nvPr/>
            </p:nvSpPr>
            <p:spPr>
              <a:xfrm flipV="1">
                <a:off x="947880" y="3519360"/>
                <a:ext cx="1457280" cy="65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9"/>
              <p:cNvSpPr/>
              <p:nvPr/>
            </p:nvSpPr>
            <p:spPr>
              <a:xfrm flipV="1">
                <a:off x="4284720" y="2966760"/>
                <a:ext cx="2039760" cy="45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Rectangle 40"/>
            <p:cNvSpPr/>
            <p:nvPr/>
          </p:nvSpPr>
          <p:spPr>
            <a:xfrm>
              <a:off x="8104320" y="259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*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3276720" y="5037120"/>
            <a:ext cx="16732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5"/>
          <p:cNvSpPr/>
          <p:nvPr/>
        </p:nvSpPr>
        <p:spPr>
          <a:xfrm>
            <a:off x="216000" y="-2520"/>
            <a:ext cx="89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What proportion of overweight suitcases weigh less than 22 k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"/>
          <p:cNvSpPr/>
          <p:nvPr/>
        </p:nvSpPr>
        <p:spPr>
          <a:xfrm>
            <a:off x="360720" y="207072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di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7"/>
          <p:cNvSpPr/>
          <p:nvPr/>
        </p:nvSpPr>
        <p:spPr>
          <a:xfrm>
            <a:off x="757080" y="297216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22/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9" name="Object 9"/>
          <p:cNvGraphicFramePr/>
          <p:nvPr/>
        </p:nvGraphicFramePr>
        <p:xfrm>
          <a:off x="3276720" y="2851200"/>
          <a:ext cx="21715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51200"/>
                    <a:ext cx="2171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11"/>
          <p:cNvGraphicFramePr/>
          <p:nvPr/>
        </p:nvGraphicFramePr>
        <p:xfrm>
          <a:off x="3016080" y="3924360"/>
          <a:ext cx="193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6080" y="3924360"/>
                    <a:ext cx="193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12"/>
          <p:cNvSpPr/>
          <p:nvPr/>
        </p:nvSpPr>
        <p:spPr>
          <a:xfrm>
            <a:off x="2959560" y="508068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5338 (4 s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3"/>
          <p:cNvSpPr/>
          <p:nvPr/>
        </p:nvSpPr>
        <p:spPr>
          <a:xfrm>
            <a:off x="4415040" y="20707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that </a:t>
            </a: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&lt; 22, given that </a:t>
            </a: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&gt; 2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4"/>
          <p:cNvSpPr/>
          <p:nvPr/>
        </p:nvSpPr>
        <p:spPr>
          <a:xfrm>
            <a:off x="457200" y="5555880"/>
            <a:ext cx="86868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mbined Events for Poisson, Normal and Binom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31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303</a:t>
            </a:r>
            <a:r>
              <a:rPr b="0" i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05 in 2007 edi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761040" y="2648520"/>
            <a:ext cx="31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a probability tree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46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147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9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13"/>
          <p:cNvGrpSpPr/>
          <p:nvPr/>
        </p:nvGrpSpPr>
        <p:grpSpPr>
          <a:xfrm>
            <a:off x="3379680" y="2567160"/>
            <a:ext cx="3913200" cy="2903760"/>
            <a:chOff x="3379680" y="2567160"/>
            <a:chExt cx="3913200" cy="2903760"/>
          </a:xfrm>
        </p:grpSpPr>
        <p:grpSp>
          <p:nvGrpSpPr>
            <p:cNvPr id="1154" name="Group 14"/>
            <p:cNvGrpSpPr/>
            <p:nvPr/>
          </p:nvGrpSpPr>
          <p:grpSpPr>
            <a:xfrm>
              <a:off x="3379680" y="2567160"/>
              <a:ext cx="3913200" cy="2903760"/>
              <a:chOff x="3379680" y="2567160"/>
              <a:chExt cx="3913200" cy="2903760"/>
            </a:xfrm>
          </p:grpSpPr>
          <p:grpSp>
            <p:nvGrpSpPr>
              <p:cNvPr id="1155" name="Group 15"/>
              <p:cNvGrpSpPr/>
              <p:nvPr/>
            </p:nvGrpSpPr>
            <p:grpSpPr>
              <a:xfrm>
                <a:off x="3379680" y="2567160"/>
                <a:ext cx="3913200" cy="1364040"/>
                <a:chOff x="3379680" y="2567160"/>
                <a:chExt cx="3913200" cy="1364040"/>
              </a:xfrm>
            </p:grpSpPr>
            <p:grpSp>
              <p:nvGrpSpPr>
                <p:cNvPr id="1156" name="Group 16"/>
                <p:cNvGrpSpPr/>
                <p:nvPr/>
              </p:nvGrpSpPr>
              <p:grpSpPr>
                <a:xfrm>
                  <a:off x="3379680" y="2890800"/>
                  <a:ext cx="901440" cy="845640"/>
                  <a:chOff x="3379680" y="2890800"/>
                  <a:chExt cx="901440" cy="845640"/>
                </a:xfrm>
              </p:grpSpPr>
              <p:sp>
                <p:nvSpPr>
                  <p:cNvPr id="1157" name="Line 17"/>
                  <p:cNvSpPr/>
                  <p:nvPr/>
                </p:nvSpPr>
                <p:spPr>
                  <a:xfrm flipV="1">
                    <a:off x="3379680" y="289080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8"/>
                  <p:cNvSpPr/>
                  <p:nvPr/>
                </p:nvSpPr>
                <p:spPr>
                  <a:xfrm>
                    <a:off x="3379680" y="3314160"/>
                    <a:ext cx="901440" cy="42228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Text Box 19"/>
                <p:cNvSpPr/>
                <p:nvPr/>
              </p:nvSpPr>
              <p:spPr>
                <a:xfrm>
                  <a:off x="4410000" y="256716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20"/>
                <p:cNvSpPr/>
                <p:nvPr/>
              </p:nvSpPr>
              <p:spPr>
                <a:xfrm>
                  <a:off x="4410000" y="353232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Group 21"/>
              <p:cNvGrpSpPr/>
              <p:nvPr/>
            </p:nvGrpSpPr>
            <p:grpSpPr>
              <a:xfrm>
                <a:off x="3379680" y="4157640"/>
                <a:ext cx="3913200" cy="1313280"/>
                <a:chOff x="3379680" y="4157640"/>
                <a:chExt cx="3913200" cy="1313280"/>
              </a:xfrm>
            </p:grpSpPr>
            <p:grpSp>
              <p:nvGrpSpPr>
                <p:cNvPr id="1162" name="Group 22"/>
                <p:cNvGrpSpPr/>
                <p:nvPr/>
              </p:nvGrpSpPr>
              <p:grpSpPr>
                <a:xfrm>
                  <a:off x="3379680" y="4444920"/>
                  <a:ext cx="901440" cy="846360"/>
                  <a:chOff x="3379680" y="4444920"/>
                  <a:chExt cx="901440" cy="846360"/>
                </a:xfrm>
              </p:grpSpPr>
              <p:sp>
                <p:nvSpPr>
                  <p:cNvPr id="1163" name="Line 23"/>
                  <p:cNvSpPr/>
                  <p:nvPr/>
                </p:nvSpPr>
                <p:spPr>
                  <a:xfrm flipV="1">
                    <a:off x="3379680" y="444492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24"/>
                  <p:cNvSpPr/>
                  <p:nvPr/>
                </p:nvSpPr>
                <p:spPr>
                  <a:xfrm>
                    <a:off x="3379680" y="486864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5" name="Text Box 25"/>
                <p:cNvSpPr/>
                <p:nvPr/>
              </p:nvSpPr>
              <p:spPr>
                <a:xfrm>
                  <a:off x="4410000" y="415764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Text Box 26"/>
                <p:cNvSpPr/>
                <p:nvPr/>
              </p:nvSpPr>
              <p:spPr>
                <a:xfrm>
                  <a:off x="4410000" y="507204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7" name="Text Box 27"/>
            <p:cNvSpPr/>
            <p:nvPr/>
          </p:nvSpPr>
          <p:spPr>
            <a:xfrm>
              <a:off x="3557520" y="268272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8"/>
            <p:cNvSpPr/>
            <p:nvPr/>
          </p:nvSpPr>
          <p:spPr>
            <a:xfrm>
              <a:off x="3557520" y="428616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29"/>
          <p:cNvSpPr/>
          <p:nvPr/>
        </p:nvSpPr>
        <p:spPr>
          <a:xfrm>
            <a:off x="3556080" y="306864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2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74" name="Group 5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175" name="Line 6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Text Box 8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9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10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Text Box 11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Group 12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182" name="Line 13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4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Text Box 15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6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17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187" name="Line 18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9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Text Box 20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21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2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8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3"/>
          <p:cNvSpPr/>
          <p:nvPr/>
        </p:nvSpPr>
        <p:spPr>
          <a:xfrm>
            <a:off x="3557520" y="428616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24"/>
          <p:cNvSpPr/>
          <p:nvPr/>
        </p:nvSpPr>
        <p:spPr>
          <a:xfrm>
            <a:off x="3568680" y="463392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5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99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00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07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212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8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2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25"/>
          <p:cNvSpPr/>
          <p:nvPr/>
        </p:nvSpPr>
        <p:spPr>
          <a:xfrm>
            <a:off x="2654280" y="6207120"/>
            <a:ext cx="14288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26"/>
          <p:cNvSpPr/>
          <p:nvPr/>
        </p:nvSpPr>
        <p:spPr>
          <a:xfrm>
            <a:off x="525960" y="57488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3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27"/>
          <p:cNvSpPr/>
          <p:nvPr/>
        </p:nvSpPr>
        <p:spPr>
          <a:xfrm>
            <a:off x="2555640" y="57488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8"/>
          <p:cNvSpPr/>
          <p:nvPr/>
        </p:nvSpPr>
        <p:spPr>
          <a:xfrm>
            <a:off x="4176360" y="574884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2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2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29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223" name="Line 30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31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32"/>
          <p:cNvGrpSpPr/>
          <p:nvPr/>
        </p:nvGrpSpPr>
        <p:grpSpPr>
          <a:xfrm>
            <a:off x="1265400" y="4119480"/>
            <a:ext cx="3046320" cy="747360"/>
            <a:chOff x="1265400" y="4119480"/>
            <a:chExt cx="3046320" cy="747360"/>
          </a:xfrm>
        </p:grpSpPr>
        <p:sp>
          <p:nvSpPr>
            <p:cNvPr id="1226" name="Line 33"/>
            <p:cNvSpPr/>
            <p:nvPr/>
          </p:nvSpPr>
          <p:spPr>
            <a:xfrm>
              <a:off x="1265400" y="411948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34"/>
            <p:cNvSpPr/>
            <p:nvPr/>
          </p:nvSpPr>
          <p:spPr>
            <a:xfrm flipV="1">
              <a:off x="3376440" y="44287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Rectangle 35"/>
          <p:cNvSpPr/>
          <p:nvPr/>
        </p:nvSpPr>
        <p:spPr>
          <a:xfrm>
            <a:off x="2328120" y="62488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19 (2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3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228600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04920" y="685800"/>
            <a:ext cx="7772400" cy="14724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’ll be using Poisson Distribution to calculate the probability of an event occurring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34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35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Group 13"/>
          <p:cNvGrpSpPr/>
          <p:nvPr/>
        </p:nvGrpSpPr>
        <p:grpSpPr>
          <a:xfrm>
            <a:off x="3379680" y="2567160"/>
            <a:ext cx="3913200" cy="2903760"/>
            <a:chOff x="3379680" y="2567160"/>
            <a:chExt cx="3913200" cy="2903760"/>
          </a:xfrm>
        </p:grpSpPr>
        <p:grpSp>
          <p:nvGrpSpPr>
            <p:cNvPr id="1242" name="Group 14"/>
            <p:cNvGrpSpPr/>
            <p:nvPr/>
          </p:nvGrpSpPr>
          <p:grpSpPr>
            <a:xfrm>
              <a:off x="3379680" y="2567160"/>
              <a:ext cx="3913200" cy="2903760"/>
              <a:chOff x="3379680" y="2567160"/>
              <a:chExt cx="3913200" cy="2903760"/>
            </a:xfrm>
          </p:grpSpPr>
          <p:grpSp>
            <p:nvGrpSpPr>
              <p:cNvPr id="1243" name="Group 15"/>
              <p:cNvGrpSpPr/>
              <p:nvPr/>
            </p:nvGrpSpPr>
            <p:grpSpPr>
              <a:xfrm>
                <a:off x="3379680" y="2567160"/>
                <a:ext cx="3913200" cy="1364040"/>
                <a:chOff x="3379680" y="2567160"/>
                <a:chExt cx="3913200" cy="1364040"/>
              </a:xfrm>
            </p:grpSpPr>
            <p:grpSp>
              <p:nvGrpSpPr>
                <p:cNvPr id="1244" name="Group 16"/>
                <p:cNvGrpSpPr/>
                <p:nvPr/>
              </p:nvGrpSpPr>
              <p:grpSpPr>
                <a:xfrm>
                  <a:off x="3379680" y="2890800"/>
                  <a:ext cx="901440" cy="845640"/>
                  <a:chOff x="3379680" y="2890800"/>
                  <a:chExt cx="901440" cy="845640"/>
                </a:xfrm>
              </p:grpSpPr>
              <p:sp>
                <p:nvSpPr>
                  <p:cNvPr id="1245" name="Line 17"/>
                  <p:cNvSpPr/>
                  <p:nvPr/>
                </p:nvSpPr>
                <p:spPr>
                  <a:xfrm flipV="1">
                    <a:off x="3379680" y="289080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8"/>
                  <p:cNvSpPr/>
                  <p:nvPr/>
                </p:nvSpPr>
                <p:spPr>
                  <a:xfrm>
                    <a:off x="3379680" y="3314160"/>
                    <a:ext cx="901440" cy="42228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7" name="Text Box 19"/>
                <p:cNvSpPr/>
                <p:nvPr/>
              </p:nvSpPr>
              <p:spPr>
                <a:xfrm>
                  <a:off x="4410000" y="256716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Text Box 20"/>
                <p:cNvSpPr/>
                <p:nvPr/>
              </p:nvSpPr>
              <p:spPr>
                <a:xfrm>
                  <a:off x="4410000" y="353232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Group 21"/>
              <p:cNvGrpSpPr/>
              <p:nvPr/>
            </p:nvGrpSpPr>
            <p:grpSpPr>
              <a:xfrm>
                <a:off x="3379680" y="4157640"/>
                <a:ext cx="3913200" cy="1313280"/>
                <a:chOff x="3379680" y="4157640"/>
                <a:chExt cx="3913200" cy="1313280"/>
              </a:xfrm>
            </p:grpSpPr>
            <p:grpSp>
              <p:nvGrpSpPr>
                <p:cNvPr id="1250" name="Group 22"/>
                <p:cNvGrpSpPr/>
                <p:nvPr/>
              </p:nvGrpSpPr>
              <p:grpSpPr>
                <a:xfrm>
                  <a:off x="3379680" y="4444920"/>
                  <a:ext cx="901440" cy="846360"/>
                  <a:chOff x="3379680" y="4444920"/>
                  <a:chExt cx="901440" cy="846360"/>
                </a:xfrm>
              </p:grpSpPr>
              <p:sp>
                <p:nvSpPr>
                  <p:cNvPr id="1251" name="Line 23"/>
                  <p:cNvSpPr/>
                  <p:nvPr/>
                </p:nvSpPr>
                <p:spPr>
                  <a:xfrm flipV="1">
                    <a:off x="3379680" y="444492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24"/>
                  <p:cNvSpPr/>
                  <p:nvPr/>
                </p:nvSpPr>
                <p:spPr>
                  <a:xfrm>
                    <a:off x="3379680" y="486864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Text Box 25"/>
                <p:cNvSpPr/>
                <p:nvPr/>
              </p:nvSpPr>
              <p:spPr>
                <a:xfrm>
                  <a:off x="4410000" y="415764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Text Box 26"/>
                <p:cNvSpPr/>
                <p:nvPr/>
              </p:nvSpPr>
              <p:spPr>
                <a:xfrm>
                  <a:off x="4410000" y="507204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5" name="Text Box 27"/>
            <p:cNvSpPr/>
            <p:nvPr/>
          </p:nvSpPr>
          <p:spPr>
            <a:xfrm>
              <a:off x="3557520" y="268272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28"/>
            <p:cNvSpPr/>
            <p:nvPr/>
          </p:nvSpPr>
          <p:spPr>
            <a:xfrm>
              <a:off x="3557520" y="428616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Text Box 29"/>
          <p:cNvSpPr/>
          <p:nvPr/>
        </p:nvSpPr>
        <p:spPr>
          <a:xfrm>
            <a:off x="3556080" y="310680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2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Group 4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62" name="Group 5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63" name="Line 6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Line 7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Text Box 8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9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10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11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12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70" name="Line 13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14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15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7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275" name="Line 18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9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20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21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2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23"/>
          <p:cNvSpPr/>
          <p:nvPr/>
        </p:nvSpPr>
        <p:spPr>
          <a:xfrm>
            <a:off x="3557520" y="428616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4"/>
          <p:cNvSpPr/>
          <p:nvPr/>
        </p:nvSpPr>
        <p:spPr>
          <a:xfrm>
            <a:off x="3581280" y="4646520"/>
            <a:ext cx="39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25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87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88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95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00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5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26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308" name="Line 27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28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Group 29"/>
          <p:cNvGrpSpPr/>
          <p:nvPr/>
        </p:nvGrpSpPr>
        <p:grpSpPr>
          <a:xfrm>
            <a:off x="3918240" y="5596560"/>
            <a:ext cx="3904920" cy="891360"/>
            <a:chOff x="3918240" y="5596560"/>
            <a:chExt cx="3904920" cy="891360"/>
          </a:xfrm>
        </p:grpSpPr>
        <p:sp>
          <p:nvSpPr>
            <p:cNvPr id="1311" name="Rectangle 30"/>
            <p:cNvSpPr/>
            <p:nvPr/>
          </p:nvSpPr>
          <p:spPr>
            <a:xfrm>
              <a:off x="3918240" y="5596560"/>
              <a:ext cx="38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 AND 0 accidents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31"/>
            <p:cNvSpPr/>
            <p:nvPr/>
          </p:nvSpPr>
          <p:spPr>
            <a:xfrm>
              <a:off x="4704480" y="60282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 0 accidents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32"/>
            <p:cNvSpPr/>
            <p:nvPr/>
          </p:nvSpPr>
          <p:spPr>
            <a:xfrm>
              <a:off x="3924360" y="6032520"/>
              <a:ext cx="389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Rectangle 33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19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20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27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32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25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339" name="Line 26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27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Rectangle 28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9"/>
          <p:cNvSpPr/>
          <p:nvPr/>
        </p:nvSpPr>
        <p:spPr>
          <a:xfrm>
            <a:off x="4732200" y="559656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3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30"/>
          <p:cNvSpPr/>
          <p:nvPr/>
        </p:nvSpPr>
        <p:spPr>
          <a:xfrm>
            <a:off x="3924360" y="603252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31"/>
          <p:cNvSpPr/>
          <p:nvPr/>
        </p:nvSpPr>
        <p:spPr>
          <a:xfrm>
            <a:off x="4742640" y="6040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0 acci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32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50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51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58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63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25"/>
          <p:cNvGrpSpPr/>
          <p:nvPr/>
        </p:nvGrpSpPr>
        <p:grpSpPr>
          <a:xfrm>
            <a:off x="1265400" y="2882520"/>
            <a:ext cx="3030480" cy="1987560"/>
            <a:chOff x="1265400" y="2882520"/>
            <a:chExt cx="3030480" cy="1987560"/>
          </a:xfrm>
        </p:grpSpPr>
        <p:grpSp>
          <p:nvGrpSpPr>
            <p:cNvPr id="1370" name="Group 26"/>
            <p:cNvGrpSpPr/>
            <p:nvPr/>
          </p:nvGrpSpPr>
          <p:grpSpPr>
            <a:xfrm>
              <a:off x="1265400" y="2882520"/>
              <a:ext cx="3030480" cy="1212840"/>
              <a:chOff x="1265400" y="2882520"/>
              <a:chExt cx="3030480" cy="1212840"/>
            </a:xfrm>
          </p:grpSpPr>
          <p:sp>
            <p:nvSpPr>
              <p:cNvPr id="1371" name="Line 27"/>
              <p:cNvSpPr/>
              <p:nvPr/>
            </p:nvSpPr>
            <p:spPr>
              <a:xfrm flipV="1">
                <a:off x="1265400" y="3369960"/>
                <a:ext cx="888840" cy="72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28"/>
              <p:cNvSpPr/>
              <p:nvPr/>
            </p:nvSpPr>
            <p:spPr>
              <a:xfrm flipV="1">
                <a:off x="3360600" y="2882520"/>
                <a:ext cx="935280" cy="43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Group 29"/>
            <p:cNvGrpSpPr/>
            <p:nvPr/>
          </p:nvGrpSpPr>
          <p:grpSpPr>
            <a:xfrm>
              <a:off x="1265400" y="4119480"/>
              <a:ext cx="3030480" cy="750600"/>
              <a:chOff x="1265400" y="4119480"/>
              <a:chExt cx="3030480" cy="750600"/>
            </a:xfrm>
          </p:grpSpPr>
          <p:sp>
            <p:nvSpPr>
              <p:cNvPr id="1374" name="Line 30"/>
              <p:cNvSpPr/>
              <p:nvPr/>
            </p:nvSpPr>
            <p:spPr>
              <a:xfrm>
                <a:off x="1265400" y="4119480"/>
                <a:ext cx="888840" cy="72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31"/>
              <p:cNvSpPr/>
              <p:nvPr/>
            </p:nvSpPr>
            <p:spPr>
              <a:xfrm flipV="1">
                <a:off x="3360600" y="4431960"/>
                <a:ext cx="935280" cy="43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Rectangle 32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33"/>
          <p:cNvSpPr/>
          <p:nvPr/>
        </p:nvSpPr>
        <p:spPr>
          <a:xfrm>
            <a:off x="4732200" y="559656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3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34"/>
          <p:cNvSpPr/>
          <p:nvPr/>
        </p:nvSpPr>
        <p:spPr>
          <a:xfrm>
            <a:off x="3924360" y="603252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35"/>
          <p:cNvSpPr/>
          <p:nvPr/>
        </p:nvSpPr>
        <p:spPr>
          <a:xfrm>
            <a:off x="4742640" y="6040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0 acci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85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86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8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93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98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25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405" name="Line 26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7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Group 28"/>
          <p:cNvGrpSpPr/>
          <p:nvPr/>
        </p:nvGrpSpPr>
        <p:grpSpPr>
          <a:xfrm>
            <a:off x="1265400" y="4119480"/>
            <a:ext cx="3030480" cy="750600"/>
            <a:chOff x="1265400" y="4119480"/>
            <a:chExt cx="3030480" cy="750600"/>
          </a:xfrm>
        </p:grpSpPr>
        <p:sp>
          <p:nvSpPr>
            <p:cNvPr id="1408" name="Line 29"/>
            <p:cNvSpPr/>
            <p:nvPr/>
          </p:nvSpPr>
          <p:spPr>
            <a:xfrm>
              <a:off x="1265400" y="411948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30"/>
            <p:cNvSpPr/>
            <p:nvPr/>
          </p:nvSpPr>
          <p:spPr>
            <a:xfrm flipV="1">
              <a:off x="3360600" y="443196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31"/>
          <p:cNvGrpSpPr/>
          <p:nvPr/>
        </p:nvGrpSpPr>
        <p:grpSpPr>
          <a:xfrm>
            <a:off x="524880" y="5596560"/>
            <a:ext cx="7425000" cy="903960"/>
            <a:chOff x="524880" y="5596560"/>
            <a:chExt cx="7425000" cy="903960"/>
          </a:xfrm>
        </p:grpSpPr>
        <p:grpSp>
          <p:nvGrpSpPr>
            <p:cNvPr id="1411" name="Group 32"/>
            <p:cNvGrpSpPr/>
            <p:nvPr/>
          </p:nvGrpSpPr>
          <p:grpSpPr>
            <a:xfrm>
              <a:off x="524880" y="5596560"/>
              <a:ext cx="7298280" cy="612000"/>
              <a:chOff x="524880" y="5596560"/>
              <a:chExt cx="7298280" cy="612000"/>
            </a:xfrm>
          </p:grpSpPr>
          <p:sp>
            <p:nvSpPr>
              <p:cNvPr id="1412" name="Rectangle 33"/>
              <p:cNvSpPr/>
              <p:nvPr/>
            </p:nvSpPr>
            <p:spPr>
              <a:xfrm>
                <a:off x="524880" y="5748840"/>
                <a:ext cx="34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(weekday/0 accidents)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34"/>
              <p:cNvSpPr/>
              <p:nvPr/>
            </p:nvSpPr>
            <p:spPr>
              <a:xfrm>
                <a:off x="4732200" y="559656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/7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0.1353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35"/>
              <p:cNvSpPr/>
              <p:nvPr/>
            </p:nvSpPr>
            <p:spPr>
              <a:xfrm>
                <a:off x="3924360" y="6032520"/>
                <a:ext cx="389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Rectangle 36"/>
            <p:cNvSpPr/>
            <p:nvPr/>
          </p:nvSpPr>
          <p:spPr>
            <a:xfrm>
              <a:off x="3918240" y="6040800"/>
              <a:ext cx="40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5/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.1353 + 2/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.0498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Rectangle 37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421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422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429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434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25"/>
          <p:cNvGrpSpPr/>
          <p:nvPr/>
        </p:nvGrpSpPr>
        <p:grpSpPr>
          <a:xfrm>
            <a:off x="524880" y="5596560"/>
            <a:ext cx="4565880" cy="903960"/>
            <a:chOff x="524880" y="5596560"/>
            <a:chExt cx="4565880" cy="903960"/>
          </a:xfrm>
        </p:grpSpPr>
        <p:sp>
          <p:nvSpPr>
            <p:cNvPr id="1441" name="Rectangle 26"/>
            <p:cNvSpPr/>
            <p:nvPr/>
          </p:nvSpPr>
          <p:spPr>
            <a:xfrm>
              <a:off x="524880" y="5748840"/>
              <a:ext cx="34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/0 accidents)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27"/>
            <p:cNvSpPr/>
            <p:nvPr/>
          </p:nvSpPr>
          <p:spPr>
            <a:xfrm>
              <a:off x="3995640" y="5596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96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28"/>
            <p:cNvSpPr/>
            <p:nvPr/>
          </p:nvSpPr>
          <p:spPr>
            <a:xfrm>
              <a:off x="3924360" y="6032520"/>
              <a:ext cx="11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29"/>
            <p:cNvSpPr/>
            <p:nvPr/>
          </p:nvSpPr>
          <p:spPr>
            <a:xfrm>
              <a:off x="3995640" y="6040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110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2"/>
          <p:cNvSpPr/>
          <p:nvPr/>
        </p:nvSpPr>
        <p:spPr>
          <a:xfrm>
            <a:off x="3835440" y="5711760"/>
            <a:ext cx="18032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5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6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451" name="Group 7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452" name="Line 8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9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Text Box 10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11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12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Text Box 13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Group 14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459" name="Line 15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16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Text Box 17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18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19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464" name="Line 20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Line 21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Text Box 22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23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4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5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26"/>
          <p:cNvGrpSpPr/>
          <p:nvPr/>
        </p:nvGrpSpPr>
        <p:grpSpPr>
          <a:xfrm>
            <a:off x="531360" y="5790240"/>
            <a:ext cx="5015880" cy="459720"/>
            <a:chOff x="531360" y="5790240"/>
            <a:chExt cx="5015880" cy="459720"/>
          </a:xfrm>
        </p:grpSpPr>
        <p:sp>
          <p:nvSpPr>
            <p:cNvPr id="1471" name="Rectangle 27"/>
            <p:cNvSpPr/>
            <p:nvPr/>
          </p:nvSpPr>
          <p:spPr>
            <a:xfrm>
              <a:off x="531360" y="5790240"/>
              <a:ext cx="34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/0 accidents)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28"/>
            <p:cNvSpPr/>
            <p:nvPr/>
          </p:nvSpPr>
          <p:spPr>
            <a:xfrm>
              <a:off x="3798360" y="579024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8717 (4sf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Rectangle 29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2"/>
          <p:cNvSpPr/>
          <p:nvPr/>
        </p:nvSpPr>
        <p:spPr>
          <a:xfrm>
            <a:off x="0" y="228600"/>
            <a:ext cx="9144000" cy="1889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4"/>
          <p:cNvSpPr/>
          <p:nvPr/>
        </p:nvSpPr>
        <p:spPr>
          <a:xfrm>
            <a:off x="3048120" y="6324480"/>
            <a:ext cx="18288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6"/>
          <p:cNvSpPr/>
          <p:nvPr/>
        </p:nvSpPr>
        <p:spPr>
          <a:xfrm>
            <a:off x="392400" y="162360"/>
            <a:ext cx="87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A travel agent receives faxes from either within New Zealand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verseas. The probability that any given fax arrives from a N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ealand number is 0.75.  One day the travel agent receives 10 faxe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at least 6 are from New Zealand numbers, calculate the prob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nly 1 of the 10 faxes is from over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409680" y="261504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0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8"/>
          <p:cNvSpPr/>
          <p:nvPr/>
        </p:nvSpPr>
        <p:spPr>
          <a:xfrm>
            <a:off x="405000" y="21895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ppo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number of faxes from over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9"/>
          <p:cNvSpPr/>
          <p:nvPr/>
        </p:nvSpPr>
        <p:spPr>
          <a:xfrm>
            <a:off x="3522600" y="218592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tate the random variabl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0"/>
          <p:cNvSpPr/>
          <p:nvPr/>
        </p:nvSpPr>
        <p:spPr>
          <a:xfrm>
            <a:off x="3273480" y="265176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Give the values of the two parameter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1"/>
          <p:cNvSpPr/>
          <p:nvPr/>
        </p:nvSpPr>
        <p:spPr>
          <a:xfrm>
            <a:off x="4811760" y="310248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hat are we trying to f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"/>
          <p:cNvSpPr/>
          <p:nvPr/>
        </p:nvSpPr>
        <p:spPr>
          <a:xfrm>
            <a:off x="369720" y="308304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We want the probability that 1 fax is from overseas </a:t>
            </a:r>
            <a:br>
              <a:rPr sz="2400"/>
            </a:b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iven that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4 or fewer are from overse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5" name="Object 14"/>
          <p:cNvGraphicFramePr/>
          <p:nvPr/>
        </p:nvGraphicFramePr>
        <p:xfrm>
          <a:off x="463680" y="4214880"/>
          <a:ext cx="25779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214880"/>
                    <a:ext cx="2577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15"/>
          <p:cNvGraphicFramePr/>
          <p:nvPr/>
        </p:nvGraphicFramePr>
        <p:xfrm>
          <a:off x="3078000" y="4079880"/>
          <a:ext cx="2489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8000" y="4079880"/>
                    <a:ext cx="2489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9" name="Object 16"/>
          <p:cNvGraphicFramePr/>
          <p:nvPr/>
        </p:nvGraphicFramePr>
        <p:xfrm>
          <a:off x="2828880" y="4875120"/>
          <a:ext cx="158760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8880" y="4875120"/>
                    <a:ext cx="1587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Text Box 17"/>
          <p:cNvSpPr/>
          <p:nvPr/>
        </p:nvSpPr>
        <p:spPr>
          <a:xfrm>
            <a:off x="2743200" y="5562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0.187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.92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8"/>
          <p:cNvSpPr/>
          <p:nvPr/>
        </p:nvSpPr>
        <p:spPr>
          <a:xfrm>
            <a:off x="2743200" y="6400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=  0.2036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9"/>
          <p:cNvSpPr/>
          <p:nvPr/>
        </p:nvSpPr>
        <p:spPr>
          <a:xfrm>
            <a:off x="4343400" y="5638680"/>
            <a:ext cx="312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ing Graphics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498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499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500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8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520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521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522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523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5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6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8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529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530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2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43"/>
          <p:cNvSpPr/>
          <p:nvPr/>
        </p:nvSpPr>
        <p:spPr>
          <a:xfrm>
            <a:off x="403200" y="3465720"/>
            <a:ext cx="54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aph shows the relationship between the two dis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8-07T09:27:56Z</dcterms:modified>
  <cp:revision>1585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